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7C16C-A819-427B-99B0-8DB636D93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2FB45-DDFF-4B4E-B3CC-56976506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1B0DF-49E2-4A85-8E7C-4AD441C8A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B9BE2-7FFC-479F-B252-CF61C8DE0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917AF-C419-4164-AEC1-88221246E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16ECC-A9E8-41F0-BD78-3E2ACB125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E6204-B0E1-4A5B-B7D7-8FC1BB2B2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BD62-2740-491D-B843-A046CA581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22020-0C61-4F2E-A495-6889D9A78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5424-C4BD-46EE-966D-21266C442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54405-1005-4342-8B5E-C14F0A9D5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EE777-3079-4873-B4E8-595D0DDEB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455B-A731-4997-A498-9DBEE44026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imgres?imgurl=http://www.stevespanglerscience.com/img/cache/bcb9b8db117ee64376aedaf7af3595ca/bacteria-1-29-340x340.jpg&amp;imgrefurl=http://www.stevespanglerscience.com/content/science-video/bacteria-testing&amp;usg=__1uQi-FLTyi35N7exLba81xSOh3M=&amp;h=340&amp;w=340&amp;sz=19&amp;hl=en&amp;start=19&amp;tbnid=Hb78aJ3sT0oycM:&amp;tbnh=119&amp;tbnw=119&amp;prev=/images%3Fq%3Dbacteria%26ndsp%3D18%26hl%3Den%26sa%3DN%26start%3D1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com/imgres?imgurl=http://www.sisbrostudios.com/assets/images/greenpeople.jpg&amp;imgrefurl=http://www.sisbrostudios.com/newsy_news/news-headlines/sisbro-tries-photosynthesis.html&amp;usg=__GjJ3atmK-Ld1M8JszD1u6xOkk20=&amp;h=225&amp;w=216&amp;sz=62&amp;hl=en&amp;start=12&amp;tbnid=cgwTGRYmCN1-7M:&amp;tbnh=108&amp;tbnw=104&amp;prev=/images%3Fq%3DPhotoautotrophs%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jk169.k12.sd.us/images/Escherichia_coli1355024.300a%255B1%255D.jpg&amp;imgrefurl=http://jk169.k12.sd.us/proteobacteria.htm&amp;usg=__sJNuhvSix5AMicnXEoPDj07tHx4=&amp;h=300&amp;w=413&amp;sz=48&amp;hl=en&amp;start=1&amp;tbnid=taNZVyFwqTBltM:&amp;tbnh=91&amp;tbnw=125&amp;prev=/images%3Fq%3DChemoautotrophs%26hl%3Den%26sa%3D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www.axesandalleys.com/Index/aa013/aliens.jpg&amp;imgrefurl=http://fabster.wordpress.com/&amp;usg=__TI3CfLqOBWlViMStZP8n3mr3mFo=&amp;h=509&amp;w=678&amp;sz=30&amp;hl=en&amp;start=7&amp;tbnid=67EkQFSSVxLNcM:&amp;tbnh=104&amp;tbnw=139&amp;prev=/images%3Fq%3Drealistic%2BProKaryote%26hl%3Den%26sa%3DX"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gen.cam.ac.uk/Images/summers/plasmids.jpg&amp;imgrefurl=http://www.gen.cam.ac.uk/Research/summers.htm&amp;usg=__UJ4jDulZFhKGEtMVgQh2sl-uGEc=&amp;h=403&amp;w=472&amp;sz=128&amp;hl=en&amp;start=11&amp;tbnid=VAaJf1Ixcy39ZM:&amp;tbnh=110&amp;tbnw=129&amp;prev=/images%3Fq%3Dplasmid%26hl%3De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www.scq.ubc.ca/wp-content/uploads/2006/08/peptidoglycan.gif&amp;imgrefurl=http://www.scq.ubc.ca/prescription-antibiotics-how-exactly-do-these-drugs-work/&amp;usg=__DoLGdnguuqjp8g2kEBzBpJVZoVc=&amp;h=320&amp;w=352&amp;sz=18&amp;hl=en&amp;start=2&amp;tbnid=UCZ3czXgEWUC0M:&amp;tbnh=109&amp;tbnw=120&amp;prev=/images%3Fq%3DPeptidoglycan%26ndsp%3D18%26hl%3Den%26sa%3D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solarnavigator.net/history/explorers_history/ferdinand_magellan_charcoal_fur_robe.jpg&amp;imgrefurl=http://www.solarnavigator.net/history/ferdinand_magellan.htm&amp;usg=__HcI0kNQ_6Qc7g4yysasobJr2VMY=&amp;h=422&amp;w=347&amp;sz=30&amp;hl=en&amp;start=2&amp;tbnid=-RO2AMDLWdLXCM:&amp;tbnh=126&amp;tbnw=104&amp;prev=/images%3Fq%3Dmagellan%26hl%3Den%26sa%3DX"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upload.wikimedia.org/wikipedia/en/5/5e/GrahamCrackers-001.jpg&amp;imgrefurl=http://penzitspronouncedpants.blogspot.com/2008/06/i-need.html&amp;usg=__ljOSlPzZV6dYy3AUo3SzYc_EHPs=&amp;h=2016&amp;w=1632&amp;sz=212&amp;hl=en&amp;start=7&amp;tbnid=HK4Ah0erW2UB5M:&amp;tbnh=150&amp;tbnw=121&amp;prev=/images%3Fq%3Dgram%2Bcrackers%26ndsp%3D18%26hl%3Den%26sa%3DN"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sh114.k12.sd.us/bacteria.botulism.jpg&amp;imgrefurl=http://sh114.k12.sd.us/Classes/Biology/Assignments/clickable_worksheet.htm&amp;usg=__UR0A6SKmLFJx0k1D58oks2Hy8A4=&amp;h=87&amp;w=116&amp;sz=5&amp;hl=en&amp;start=10&amp;tbnid=m9gBCaK199TOsM:&amp;tbnh=65&amp;tbnw=87&amp;prev=/images%3Fq%3DObligate%2Banaerobes-%26hl%3Den"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filebox.vt.edu/users/chagedor/biol_4684/Microbes/rodimage.jpg&amp;imgrefurl=http://filebox.vt.edu/users/chagedor/biol_4684/Microbes/Arthrobacter.html&amp;usg=__84zxgWmSDlaKnrnxEo781Y8Rkg8=&amp;h=370&amp;w=542&amp;sz=28&amp;hl=en&amp;start=3&amp;tbnid=3yeS-A7xgDbCGM:&amp;tbnh=90&amp;tbnw=132&amp;prev=/images%3Fq%3DObligate%2Baerobes%26hl%3Den%26sa%3D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filebox.vt.edu/users/chagedor/biol_4684/Microbes/bacterie.gif&amp;imgrefurl=http://filebox.vt.edu/users/chagedor/biol_4684/Microbes/Serratia.html&amp;usg=__4LEuyOfkJZ7oTBsSpPkr_GGkoeY=&amp;h=550&amp;w=534&amp;sz=269&amp;hl=en&amp;start=11&amp;tbnid=vGZXNzYEYIi83M:&amp;tbnh=133&amp;tbnw=129&amp;prev=/images%3Fq%3DFacultative%2Banaerobe-%26hl%3Den%26sa%3D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tbn0.google.com/images?q=tbn:Hb78aJ3sT0oycM:http://www.stevespanglerscience.com/img/cache/bcb9b8db117ee64376aedaf7af3595ca/bacteria-1-29-340x340.jpg">
            <a:hlinkClick r:id="rId1"/>
          </p:cNvP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chaebacteria and Eubacteria</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Calibri"/>
              </a:rPr>
              <a:t>By the CRIME MOB minus on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Calibri"/>
              </a:rPr>
              <a:t>And plus T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http://tbn3.google.com/images?q=tbn:cgwTGRYmCN1-7M:http://www.sisbrostudios.com/assets/images/greenpeople.jpg">
            <a:hlinkClick r:id="rId1"/>
          </p:cNvPr>
          <p:cNvPicPr/>
          <p:nvPr/>
        </p:nvPicPr>
        <p:blipFill>
          <a:blip r:embed="rId2"/>
          <a:stretch/>
        </p:blipFill>
        <p:spPr>
          <a:xfrm>
            <a:off x="2057400" y="685800"/>
            <a:ext cx="5181480" cy="538164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hotoautotrophs</a:t>
            </a:r>
            <a:r>
              <a:rPr b="0" lang="en-US" sz="3200" spc="-1" strike="noStrike">
                <a:solidFill>
                  <a:srgbClr val="000000"/>
                </a:solidFill>
                <a:latin typeface="Calibri"/>
              </a:rPr>
              <a:t>- create nutrients by using sunlight as a source and carbon diox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http://tbn1.google.com/images?q=tbn:taNZVyFwqTBltM:http://jk169.k12.sd.us/images/Escherichia_coli1355024.300a%255B1%255D.jpg">
            <a:hlinkClick r:id="rId1"/>
          </p:cNvPr>
          <p:cNvPicPr/>
          <p:nvPr/>
        </p:nvPicPr>
        <p:blipFill>
          <a:blip r:embed="rId2"/>
          <a:stretch/>
        </p:blipFill>
        <p:spPr>
          <a:xfrm>
            <a:off x="685800" y="1066680"/>
            <a:ext cx="7772400" cy="4937400"/>
          </a:xfrm>
          <a:prstGeom prst="rect">
            <a:avLst/>
          </a:prstGeom>
          <a:ln w="0">
            <a:noFill/>
          </a:ln>
        </p:spPr>
      </p:pic>
      <p:sp>
        <p:nvSpPr>
          <p:cNvPr id="7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Chemoautotrophs</a:t>
            </a:r>
            <a:r>
              <a:rPr b="0" lang="en-US" sz="3200" spc="-1" strike="noStrike">
                <a:solidFill>
                  <a:srgbClr val="ffffff"/>
                </a:solidFill>
                <a:latin typeface="Calibri"/>
              </a:rPr>
              <a:t>- obtain nutrients from inorganic substances and utilizes the carbon dioxide to make natural compound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http://tbn1.google.com/images?q=tbn:dFopbbH9KufHLM:http://www.scholl.co.il/art_images/catalog/87/athletes-foot_03.jpg"/>
          <p:cNvPicPr/>
          <p:nvPr/>
        </p:nvPicPr>
        <p:blipFill>
          <a:blip r:embed="rId1"/>
          <a:stretch/>
        </p:blipFill>
        <p:spPr>
          <a:xfrm>
            <a:off x="380880" y="1295280"/>
            <a:ext cx="7880400" cy="48610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aprophytes</a:t>
            </a:r>
            <a:r>
              <a:rPr b="0" lang="en-US" sz="3200" spc="-1" strike="noStrike">
                <a:solidFill>
                  <a:srgbClr val="000000"/>
                </a:solidFill>
                <a:latin typeface="Calibri"/>
              </a:rPr>
              <a:t>- Organisms that obtain their nutrients from decaying plants and anim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arasites</a:t>
            </a:r>
            <a:r>
              <a:rPr b="0" lang="en-US" sz="3200" spc="-1" strike="noStrike">
                <a:solidFill>
                  <a:srgbClr val="000000"/>
                </a:solidFill>
                <a:latin typeface="Calibri"/>
              </a:rPr>
              <a:t>- An organism which obtains food and shelter from another organ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5" descr="http://tbn0.google.com/images?q=tbn:Hby0R6J6tEe-xM:http://www.colonlove.com/assets/images/Parasites.jpg"/>
          <p:cNvPicPr/>
          <p:nvPr/>
        </p:nvPicPr>
        <p:blipFill>
          <a:blip r:embed="rId1"/>
          <a:stretch/>
        </p:blipFill>
        <p:spPr>
          <a:xfrm>
            <a:off x="457200" y="2743200"/>
            <a:ext cx="792468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Decomposers</a:t>
            </a:r>
            <a:r>
              <a:rPr b="0" lang="en-US" sz="3200" spc="-1" strike="noStrike">
                <a:solidFill>
                  <a:srgbClr val="000000"/>
                </a:solidFill>
                <a:latin typeface="Calibri"/>
              </a:rPr>
              <a:t>- organisms, mostly bacteria and fungi that recycle nutrients from decaying organic material. They break down detritus, nonliving organic matter, into inorganic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inguishing features of Kingdom Archaebacteria</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dom Archaebacteria is biochemically different from Eubacteria. Most of these species can or have adapted to extreme environments such as extreme temperatures, or acidity of their environment. They only reproduce asexually and there are only about 100 spe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rchaeBacteria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anogens-common in wet lands and guts of animals. Produces marsh gas and are responsible for methane in flatul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Methanobacterium, bryanti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rchaeBacteria </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eme halophilesare extremeophiles that live in high concentrations of salt Live in areas with the salt concentration being 5X greater than that of the oce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rchaeBacteria </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moacidophiles Live in areas with the temperature being 70-80 degrees C  Thrive in acidic and sulfurous ar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ubacteria</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yanobacteria</a:t>
            </a:r>
            <a:r>
              <a:rPr b="0" lang="en-US" sz="3200" spc="-1" strike="noStrike">
                <a:solidFill>
                  <a:srgbClr val="000000"/>
                </a:solidFill>
                <a:latin typeface="Calibri"/>
              </a:rPr>
              <a:t>, Also known as blue green algae, get NRG through photosynthesis it is a primary producer in the oce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tbn0.google.com/images?q=tbn:67EkQFSSVxLNcM:http://www.axesandalleys.com/Index/aa013/aliens.jpg">
            <a:hlinkClick r:id="rId1"/>
          </p:cNvP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terms U Should NO</a:t>
            </a:r>
            <a:endParaRPr b="0" lang="en-US" sz="4400" spc="-1" strike="noStrike">
              <a:solidFill>
                <a:srgbClr val="000000"/>
              </a:solidFill>
              <a:latin typeface="Calibri"/>
            </a:endParaRPr>
          </a:p>
        </p:txBody>
      </p:sp>
      <p:sp>
        <p:nvSpPr>
          <p:cNvPr id="46" name=""/>
          <p:cNvSpPr txBox="1"/>
          <p:nvPr/>
        </p:nvSpPr>
        <p:spPr>
          <a:xfrm rot="20776200">
            <a:off x="495360" y="1825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roKaryote</a:t>
            </a:r>
            <a:r>
              <a:rPr b="0" lang="en-US" sz="3200" spc="-1" strike="noStrike">
                <a:solidFill>
                  <a:srgbClr val="000000"/>
                </a:solidFill>
                <a:latin typeface="Calibri"/>
              </a:rPr>
              <a:t>-  A unicellular organism lacking a nuclear membrane, a discrete nucleus, and other specialized compartments within the c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ubacteria</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hemosynthetic Bacteria</a:t>
            </a:r>
            <a:r>
              <a:rPr b="0" lang="en-US" sz="3200" spc="-1" strike="noStrike">
                <a:solidFill>
                  <a:srgbClr val="000000"/>
                </a:solidFill>
                <a:latin typeface="Calibri"/>
              </a:rPr>
              <a:t>, Can survive without light NRG, One of the oldest forms of life  use the oxidation of sulphides as an energy source are the basis of a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ubacteria</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itrogen-Fixing Bacteria</a:t>
            </a:r>
            <a:r>
              <a:rPr b="0" lang="en-US" sz="3200" spc="-1" strike="noStrike">
                <a:solidFill>
                  <a:srgbClr val="000000"/>
                </a:solidFill>
                <a:latin typeface="Calibri"/>
              </a:rPr>
              <a:t>, use nitrogen is taken from its relatively inert molecular form (N</a:t>
            </a:r>
            <a:r>
              <a:rPr b="0" lang="en-US" sz="3200" spc="-1" strike="noStrike" baseline="-25000">
                <a:solidFill>
                  <a:srgbClr val="000000"/>
                </a:solidFill>
                <a:latin typeface="Calibri"/>
              </a:rPr>
              <a:t>2</a:t>
            </a:r>
            <a:r>
              <a:rPr b="0" lang="en-US" sz="3200" spc="-1" strike="noStrike">
                <a:solidFill>
                  <a:srgbClr val="000000"/>
                </a:solidFill>
                <a:latin typeface="Calibri"/>
              </a:rPr>
              <a:t>) in the atmosphere and converted into nitrogen compou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ubacteria</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Spritochetes</a:t>
            </a:r>
            <a:r>
              <a:rPr b="0" lang="en-US" sz="3200" spc="-1" strike="noStrike">
                <a:solidFill>
                  <a:srgbClr val="000000"/>
                </a:solidFill>
                <a:latin typeface="Calibri"/>
              </a:rPr>
              <a:t> Long slender bacteria and they are tightly coiled this can cause syphilis and lyme dise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pes Of Bacteria</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ccus- are spherical shap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pes of Bacteria</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illus- are rodlike shap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pes of Bacteria</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rilla – are curved or spiril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ngement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pto: the prefix for this means twisted ch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ngement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phylo: means grape lik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ngemen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plo: this means Dou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Gram-positive bacteria organisms- </a:t>
            </a:r>
            <a:r>
              <a:rPr b="0" lang="en-US" sz="3200" spc="-1" strike="noStrike">
                <a:solidFill>
                  <a:srgbClr val="000000"/>
                </a:solidFill>
                <a:latin typeface="Calibri"/>
              </a:rPr>
              <a:t>are able to retain the crystal violet stain because of the high amount of peptidoglycan in the cell w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Gram-negative bacteria organisms- </a:t>
            </a:r>
            <a:r>
              <a:rPr b="0" lang="en-US" sz="3200" spc="-1" strike="noStrike">
                <a:solidFill>
                  <a:srgbClr val="000000"/>
                </a:solidFill>
                <a:latin typeface="Calibri"/>
              </a:rPr>
              <a:t>cell walls in particular the lipopolysaccharide (also known as LPS or endotoxin) layer.(which does not hold in the violet stained crys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http://tbn1.google.com/images?q=tbn:VAaJf1Ixcy39ZM:http://www.gen.cam.ac.uk/Images/summers/plasmids.jpg">
            <a:hlinkClick r:id="rId1"/>
          </p:cNvPr>
          <p:cNvPicPr/>
          <p:nvPr/>
        </p:nvPicPr>
        <p:blipFill>
          <a:blip r:embed="rId2"/>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re Terms U should NO</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Plasmid-</a:t>
            </a:r>
            <a:r>
              <a:rPr b="0" lang="en-US" sz="3200" spc="-1" strike="noStrike">
                <a:solidFill>
                  <a:srgbClr val="ffffff"/>
                </a:solidFill>
                <a:latin typeface="Calibri"/>
              </a:rPr>
              <a:t> A linear or circular double-stranded DNA that is capable of replicating independently of the chromosomal D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ys Bacteria Can be Harmful</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Infect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Cause Permant Dam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Kill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ys Bacteria Can Be Helpful</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way bacteria can be helpful is bacteria live in the intestines of human beings. They help in digestion and in destroying the harmful organisms. Intestinal bacteria also produce some vitamins required by the human body another way bacteria are good is that some of them help break down lactose in the digestive tract the third reason is Some bacteria present on the skin protect us from the spread of certain fung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http://tbn3.google.com/images?q=tbn:UCZ3czXgEWUC0M:http://www.scq.ubc.ca/wp-content/uploads/2006/08/peptidoglycan.gif">
            <a:hlinkClick r:id="rId1"/>
          </p:cNvPr>
          <p:cNvPicPr/>
          <p:nvPr/>
        </p:nvPicPr>
        <p:blipFill>
          <a:blip r:embed="rId2"/>
          <a:stretch/>
        </p:blipFill>
        <p:spPr>
          <a:xfrm>
            <a:off x="152280" y="228600"/>
            <a:ext cx="8686800" cy="63673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erms U should NO</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eptidoglycan</a:t>
            </a:r>
            <a:r>
              <a:rPr b="0" lang="en-US" sz="3200" spc="-1" strike="noStrike">
                <a:solidFill>
                  <a:srgbClr val="000000"/>
                </a:solidFill>
                <a:latin typeface="Calibri"/>
              </a:rPr>
              <a:t>- A polymer that serves a structural role in the bacterial cell wall, giving structural strength, as well as counteracting the osmotic pressure of the cytoplasm. It is also involved in binary fission during bacterial cell rep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http://tbn2.google.com/images?q=tbn:-RO2AMDLWdLXCM:http://www.solarnavigator.net/history/explorers_history/ferdinand_magellan_charcoal_fur_robe.jpg">
            <a:hlinkClick r:id="rId1"/>
          </p:cNvPr>
          <p:cNvPicPr/>
          <p:nvPr/>
        </p:nvPicPr>
        <p:blipFill>
          <a:blip r:embed="rId2"/>
          <a:stretch/>
        </p:blipFill>
        <p:spPr>
          <a:xfrm>
            <a:off x="457200" y="152280"/>
            <a:ext cx="8381880" cy="67057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erms U should NO</a:t>
            </a:r>
            <a:endParaRPr b="0" lang="en-US" sz="4400" spc="-1" strike="noStrike">
              <a:solidFill>
                <a:srgbClr val="000000"/>
              </a:solidFill>
              <a:latin typeface="Calibri"/>
            </a:endParaRPr>
          </a:p>
        </p:txBody>
      </p:sp>
      <p:sp>
        <p:nvSpPr>
          <p:cNvPr id="55" name=""/>
          <p:cNvSpPr txBox="1"/>
          <p:nvPr/>
        </p:nvSpPr>
        <p:spPr>
          <a:xfrm>
            <a:off x="609480" y="2819520"/>
            <a:ext cx="822960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lagella</a:t>
            </a:r>
            <a:r>
              <a:rPr b="0" lang="en-US" sz="3200" spc="-1" strike="noStrike">
                <a:solidFill>
                  <a:srgbClr val="000000"/>
                </a:solidFill>
                <a:latin typeface="Calibri"/>
              </a:rPr>
              <a:t>- Long, slender, threadlike, whiplike extension of certain cells or unicellular organisms used mainly for mov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http://tbn0.google.com/images?q=tbn:HK4Ah0erW2UB5M:http://upload.wikimedia.org/wikipedia/en/5/5e/GrahamCrackers-001.jpg">
            <a:hlinkClick r:id="rId1"/>
          </p:cNvPr>
          <p:cNvPicPr/>
          <p:nvPr/>
        </p:nvPicPr>
        <p:blipFill>
          <a:blip r:embed="rId2"/>
          <a:stretch/>
        </p:blipFill>
        <p:spPr>
          <a:xfrm>
            <a:off x="1676520" y="533520"/>
            <a:ext cx="5635440" cy="61354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erms U should NO</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Gram stain technique- </a:t>
            </a:r>
            <a:r>
              <a:rPr b="0" lang="en-US" sz="3200" spc="-1" strike="noStrike">
                <a:solidFill>
                  <a:srgbClr val="000000"/>
                </a:solidFill>
                <a:latin typeface="Calibri"/>
              </a:rPr>
              <a:t>used to distinguish between gram-positive and gram-negative bacteria, which have distinct and consistent differences in their cell wa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tbn1.google.com/images?q=tbn:m9gBCaK199TOsM:http://sh114.k12.sd.us/bacteria.botulism.jpg">
            <a:hlinkClick r:id="rId1"/>
          </p:cNvPr>
          <p:cNvPicPr/>
          <p:nvPr/>
        </p:nvPicPr>
        <p:blipFill>
          <a:blip r:embed="rId2"/>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re Terms U Should NO</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Obligate anaerobes- </a:t>
            </a:r>
            <a:r>
              <a:rPr b="0" lang="en-US" sz="3200" spc="-1" strike="noStrike">
                <a:solidFill>
                  <a:srgbClr val="ffffff"/>
                </a:solidFill>
                <a:latin typeface="Calibri"/>
              </a:rPr>
              <a:t>anaerobic organisms which fail to grow in the presence of oxy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http://tbn2.google.com/images?q=tbn:3yeS-A7xgDbCGM:http://filebox.vt.edu/users/chagedor/biol_4684/Microbes/rodimage.jpg">
            <a:hlinkClick r:id="rId1"/>
          </p:cNvPr>
          <p:cNvPicPr/>
          <p:nvPr/>
        </p:nvPicPr>
        <p:blipFill>
          <a:blip r:embed="rId2"/>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erms U Should NO</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bligate aerobes</a:t>
            </a:r>
            <a:r>
              <a:rPr b="0" lang="en-US" sz="3200" spc="-1" strike="noStrike">
                <a:solidFill>
                  <a:srgbClr val="000000"/>
                </a:solidFill>
                <a:latin typeface="Calibri"/>
              </a:rPr>
              <a:t>­- require oxygen for aerobic cellular respiration. In a process known as cellular respiration, these organisms use oxygen to oxidize substrates (for example sugars and fats) in order to obtain energ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http://tbn3.google.com/images?q=tbn:vGZXNzYEYIi83M:http://filebox.vt.edu/users/chagedor/biol_4684/Microbes/bacterie.gif">
            <a:hlinkClick r:id="rId1"/>
          </p:cNvPr>
          <p:cNvPicPr/>
          <p:nvPr/>
        </p:nvPicPr>
        <p:blipFill>
          <a:blip r:embed="rId2"/>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re Terms U Should NO</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Facultative anaerobe- </a:t>
            </a:r>
            <a:r>
              <a:rPr b="0" lang="en-US" sz="3200" spc="-1" strike="noStrike">
                <a:solidFill>
                  <a:srgbClr val="ffffff"/>
                </a:solidFill>
                <a:latin typeface="Calibri"/>
              </a:rPr>
              <a:t>an organism, usually a bacterium, that makes ATP by aerobic respiration if oxygen is present but is also capable of switching to fermentation. In contrast, obligate anaerobes die in presence of oxy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4:27:30Z</dcterms:created>
  <dc:creator>Student</dc:creator>
  <dc:description/>
  <dc:language>en-US</dc:language>
  <cp:lastModifiedBy>Teacher</cp:lastModifiedBy>
  <dcterms:modified xsi:type="dcterms:W3CDTF">2009-03-20T15:32:24Z</dcterms:modified>
  <cp:revision>16</cp:revision>
  <dc:subject/>
  <dc:title>Archaebacteria and Eubacteria</dc:title>
</cp:coreProperties>
</file>